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4DC-B69B-44C8-AE51-B9618862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78E-E592-4181-A09C-A8E6BD85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D93EF-8208-4EDB-BEE3-AFAA93D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A87A-8574-4B37-8ACD-14D99486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33030-CAED-4A08-BEB6-628CDE6C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AECF-A40E-4934-8D7A-30462AFC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25265-66DC-491B-B06C-56C44658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B3D4C-EF44-4BE3-8C84-0DE9D74D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2D812-2804-48D0-B3A2-57F0D070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FB5E-EC42-433D-B50A-11D84CA9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95D07-D38F-4FB4-8FC2-DA98501B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ACE90-7CE8-436C-965D-334DEEAA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CB6-39C9-4BBD-BC8C-B4FF3D82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7E7CB-2F92-49FB-84B4-A7CFAA6B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4CB5F-C082-4743-9580-97C432A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69D72-0473-4A69-9A21-D65C0ACB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5C45E-7110-4C9E-A0F6-51D834B2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7174E-FB38-4A6E-825A-E3A20D54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C7CBF-D80D-40AE-9469-954E01A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ACAFA-050E-4E10-A9C0-6A92D19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5E696-8397-479F-BA08-7CBA14BE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BF645-D129-402F-A7DC-BD04E31F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E415B-0EE8-4CFF-A550-BD09EF5D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EFF-CC34-4F39-B593-49DDB80B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95051-BBC9-4E31-9EE6-FF1D1FB2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7AF66-DE8C-448D-9CD1-95582A5A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69BE5-9E97-4337-B2AC-8B99DC2F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926A7-D336-43E2-B096-350E965F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1DEBE-E855-4E9B-83F8-62F1DE08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D8228-B799-4D4E-9C29-6CA34BD7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A6B3E-F78B-4877-8822-11A06B15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86A1C-D050-4E26-8A9C-A506895B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6C118-2328-4726-BAF2-A6DE7C8F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67C5D-74AE-4C82-8176-D7AC941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8E4C-966E-43B9-97E1-AB4F8A53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DDBBB-12FC-495C-9E05-5C78F0A1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2DB0E-1BEC-473B-A3BF-4E30B9EF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FC018-CE60-424B-A3D1-A8891832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6B6B3-E9D2-49A5-A8F0-2C3FDB8C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880FC-EEC6-41B6-A08E-2549A87C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948ED-1826-467F-8A44-20FE7487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22393-C117-4418-9F2D-86B2A595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33991-3C20-4953-B7E3-28CE3E4D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F6C06-6481-4B8A-A199-C10C97A3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79815-4521-46BD-A9B0-76FD437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E553-9D58-4D41-BCCE-B436257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6DCC0-9408-418C-8893-5C4778C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3B30E-A441-4FE8-A64D-3FB2E49D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068E0-E412-4CDA-BCB9-0E418460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6AFFF-51C2-41E0-BE45-747E0536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76057-5B9F-472F-80F9-8E1A9C50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244DD-6D25-49B6-8A95-D4134654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18E4D-CD5B-4F00-AFF1-B53F6D48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11CA8-E8DE-4FC0-AC19-4550F12D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F3568-1BCA-40C6-B49F-A63EC0CB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DE832-9916-4A09-88DD-D1B129FF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84C0-1AE1-45F0-926C-A8FD7599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093F1-0B80-4782-8D51-26C6FA20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60DE1-6673-4433-9368-01070BC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4DE55-9534-4824-9192-30E1B579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6B9DD-5117-4D42-B98C-B42792D7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4693E-D76C-47E8-B1BF-CDF34AEC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33DC4-054A-42F9-B9DC-50895248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538B0-5098-4AAF-ADB3-5E1C6DC7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C8D4A-33F5-4922-82AF-A3D43F3A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89B7A-4885-42AF-8F60-5AA0672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65D1F-C416-42FC-AD84-24F4F7FE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079E-2E02-46E4-B56B-DB5AA58F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6F441-E175-4E12-B0B3-B876E73A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32B4A-A1CF-4686-A4B4-2D35E6A3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4D43C-C7EE-41F9-AFA9-457BAC85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B72EC-C54F-431B-91AF-07F2368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78AFE-350F-4BD6-A255-4DB00CCC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A6DDC-A4C7-4AF0-A235-B7F6F7E7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85E87-31BC-4EC5-B794-AA277CFD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0B200-322C-4318-B0E1-FA7AE4E3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E76FC-4E6E-4272-96BB-2D50919E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7D4A8-CF52-43E9-85AD-73E5AD96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C31D-B367-42E0-A502-78D442D5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079FB-A692-4A10-BD54-2D8BA111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2F33D-BCE3-4D74-A6B7-1F71926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359F6-100A-464C-9C6D-577E5132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DA749-8C90-4FF6-974C-83E63100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55127-7321-4269-A15E-735AFB37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3103C-5D54-47C5-87D0-40D34FF0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B7040-4C96-49FE-99B2-EB7F7AB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CB786-77B6-4F7F-9829-5C225FDB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29E15-097C-4B86-A87F-52E6FBB1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EFBDA-CB8A-4D44-BA1C-CC2B2BD0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E8DC-FAAA-4BE7-AA24-F35847B9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6F91F-C32F-49DE-BB7C-F8DF73F5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0A0A1A-0CA7-40B3-B6E4-267B42A0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63197-9447-40C9-ABBC-F0F2A218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D04D8-C2E5-41A9-9E9B-AFDC00F7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2FFC5-0D94-494F-9EA7-505684E4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95ABC-9875-4F51-9521-52BD463F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BEF38-E64A-4D14-8EA4-77A7C673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66EAB-FEE8-46A5-82DE-543A263C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E58CB-39DE-465C-B7C4-8E755171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9C49D-293D-4306-9948-1EA9B24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1DA3-B44D-43AD-B984-658EFDA5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7FD3D-4381-45D8-8ACE-37090CF7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3B861-2F92-4AD9-BA38-E4E9266D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7521D-62DA-4F39-B8BB-CA5B6A31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72831-38B9-44DF-A307-E7D38EE5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19042-9A81-4590-B495-D673517E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49DB5-3C73-4B60-8EB7-C22AE652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22C9D-C123-4DF6-93F9-CBC33B94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4820F-98CE-49AC-A087-0A500C6B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057702-4412-41E7-B032-D1BDE3BB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02CE6-6C0B-40BB-8599-FCCB228D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8FF-AF60-44F9-88FF-1113BA0F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02E5-2CB0-4696-999B-864AD13E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C0295-7374-4099-A208-8DACC310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A2537-389D-4835-BDB9-8A2457FE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44EDE-F313-45E3-B7CC-4938FBFE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8DEA3D-4BD5-437A-877A-2B52C132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76629-AD3B-4013-B112-40FA4C06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3F742-F284-49CE-AD1A-AE3920AC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05528-189E-49DF-B8AE-B7D779EE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26408-995E-46E8-9D81-CD54FC9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82490-DB47-465F-81A4-BA1EFE88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7B57B-00C0-40B8-B896-F0B211BE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68A0-99DE-419C-A9C3-2AA09B8A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2543D-DFDA-43D5-BB9F-468ABBD8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B4E46-0EFD-4C88-B460-ACC01F07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59FE23-BB8A-4885-90A9-54F7BD5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FA38B-3EAC-4151-B3DD-347D7F1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7E159-528C-4551-9389-3B0831D4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C07873-880B-48F4-8682-3D009013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0B19D-CEF0-4D1D-8247-A8A4118F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86158-1677-4C5E-A4FD-A8148514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5DF40-CE23-48DA-9D58-1D204FD9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5503B-D78F-46EB-8A5A-0FD52033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A625-780C-4009-8E13-99C960C9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F0410-7CF5-443A-9E9B-C55B7FF9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20F17-F075-4F86-8BB7-1D7E8DFD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E430BF-82E4-4FB0-A3B6-886F165F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6864D-755D-4D69-B41E-5454C810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5FA3A-07FB-414E-991E-503BBE5C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CF46C-6AA8-4D9E-9215-D154D74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53F20-EDA4-445D-87AA-FC58BD2F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CB660-2410-45F9-91F4-D9A08ED9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A3963-E8EF-464B-8EB3-D84E2F6E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0C886-955E-42E6-9EF5-F61E5559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294F-08C9-41C7-A1B3-7D22330A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EFA4DF-91C5-4C47-B28E-F9188CBF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D093B-CE79-4253-B931-23AC4FCE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C919A6-79C8-4756-8F92-6276CC0D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3939C8-8D5A-49CF-9D57-718A6A04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D1DD9-6458-44D2-A3AE-E213279E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AB50AA-2151-471C-9D01-FC4B12C8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579E65-AA20-433F-86C5-77019858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323D03-1E7B-4854-B0AE-F6F61EC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994D2-C66A-4DC4-8DA8-60F60FBD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D88AE-A33E-42C0-9D5D-13CEA80E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B7D7-E265-4BEF-A3D7-5AAE89AD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95748-D2E1-4D50-917B-81CB4B74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47CEF-6A0D-4B6F-A21C-6DCA7C5F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83938D-E640-4206-8B22-060863A4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8825A-26AA-4E1D-B743-2B76D360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2A6849-BA0F-4012-AF17-D81CF3AE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16D4EB-F73C-42B6-9195-A0D20CB4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0CF069-BDC1-49CC-8050-7D9D9E44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2072F-3012-408D-9AA0-58C0180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15F7E-3939-4EF7-8CE5-3FECBD6E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7BBA2B-5785-459F-8A3E-440A4E1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5C703-AF32-478F-BBAB-7099022C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28E54C-25D6-47B2-8A08-3FB3FA1E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6CC1A-1063-4800-9CF6-0DC5886D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751-ADB4-494B-BB6A-42872252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15ED-0AC7-4AC4-B179-A9E2FB3A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2C1D-8E3A-4B18-B99C-1BD45199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38F1-9244-4C61-B65F-42A995F1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269-BEE1-452B-BDF8-0832F6B2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473A-4A1C-4FD5-96CC-86BE6C43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FA7F-C40B-4EDD-84BA-D36B3F90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214F-AF07-4EAB-BB44-5C2A7742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814D-E56A-4BD3-8B1B-6D90987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43BE-3FEA-4CFF-BFA9-1DD368FD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5C9B-1EBB-4059-A1B4-9E1BD94A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4D6C-B90E-41E0-9F2A-0198F4EB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92BD9-89B7-4CF0-8D53-A894760B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3A2A-A6E4-4827-99F7-C58F425B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A4664-90F3-40CB-8F8C-2AA50676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131-888F-403C-ACAA-4A54C1B3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D2AE-12B1-42B2-AA43-651FFEE6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2CF4-5FC2-466F-96D5-6064E7DD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2A90-E4EB-40AF-AF55-A4D0E9FE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AD26A-1DD8-478C-AFAF-4DBC3B43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838E-2F30-4D71-918B-419D0F31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62DCC-D449-4C4B-8FBA-DB05D20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E771-E0EE-4E34-A728-2B4243C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990C5-D7BE-4B05-80CE-6E8CE67D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932A-930E-4444-B3B7-DC7BBDFB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1D58A-40DC-4A92-8C4C-B3665631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1C1-6A03-46B9-AD59-2352217C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29819-1DCC-40A7-B525-C60E4595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E7F3E-7827-4113-A091-9CFC851E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6D3F4-34DE-489F-81C7-976AD065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D83DF-E7AF-4C17-9DA3-609975B6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53ECB-B2FD-4917-BFF9-70C437FF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87118-908E-4BD9-96A1-8036F254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BEDF-AB88-40D2-B8A8-2B6E0874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75A00-1767-46BC-B645-C47230D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FB38B-6AA2-4607-97E1-7F7154E1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6FBE9-A6F0-4F4B-B95F-A23E9175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AC7-87B1-48AC-AF90-DE0402B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77E29-FC73-4E60-9DF9-6216FD88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2EF79-F430-4159-894E-977674EE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51AF3-E9F2-43FD-A162-FBAB3A06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E3746-910E-4DCE-9F94-5B80975D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7570-A689-43C0-8B34-353ABE06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41EC9-9DBD-4F22-8863-42E1F22F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F8748-593B-48A7-B8E7-63B26201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F433D-B23A-4137-95E5-1F5C9B33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9CF65-1DE1-41A2-B04D-CEDBB844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A34AD-472C-4DD7-829C-71293A0A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0BC-0628-49F5-A79B-01376FA9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24195-63F0-47CD-9513-1708102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2A5D5-EC51-459C-AA30-C0DBD5C4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AAEA2-AFA3-4BBC-ABF8-81271218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E8192-0477-4B28-BC51-5564D8F7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40290-7B38-4D04-A0AF-B2BB439E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01571-EDC0-4E30-A9FF-99C4E1BB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C283E-5E60-4EA1-B65A-DB5BD74C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F4663-0541-4955-B583-E14B5234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75F0B-A5D5-47B8-B967-97F61AAD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4BF4D-5E07-4B33-ADA5-CC626C3A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D8F-8E08-41B4-853B-959E7D1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1B67-0B5C-48A2-A935-8F7181C5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E79A8-0FB0-41FA-8A7A-706087C0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E132-1D62-46E4-AA80-D3BC64E7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71806-24BE-4D11-A2CC-09E5586D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59E40-CD83-45F6-A8E1-FB55AEA0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0BDC2-5ABE-408D-B0A0-B241CEC9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7A8E3-FBE0-4AFD-B0EE-5609A40A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A6B47-278C-40CD-A43C-1DAC5B40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75A8C-C092-4A59-9645-84083365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C79A0-7040-4C0F-9FC3-B0C00CC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B481-35E1-4250-B315-A6E7698675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ECE-A42B-4016-9AA7-F98ABE34FD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01B3-B26D-4BE8-842A-E3D8E27651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8167-CD3C-41EC-8B02-1058458CF2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ADB7-95D6-4037-8DF6-EAEC47B780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9BBE-B079-42C5-A95D-E341F70DB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E11C-A3D1-4590-A5DF-4DD9FAC167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2D14-4A6E-4BE5-A9F7-1DBE05745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D605-CE53-445A-B418-D22358F11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28E7-2E58-415F-A08B-D08096C45F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23ED-E868-429F-9032-030054C79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2EFC-9CC8-4ED9-AF85-F7B6AC0CA2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A34C-C8CE-47F9-9D76-2FFB8FE443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98CB-C574-4BF7-9F3B-2C136CE69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6307-4F45-405F-9B85-0E1E4ADE4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91C4-A2CD-4056-85E3-52D5468F68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0604-A979-408F-A3DC-1EE912E200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AEBB-765D-454A-9B15-7BFFAF62F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EBB5-D35C-4EF8-86D9-ED9B19ADA0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C0AF-940F-492C-9BE8-7DA79FD9EA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7C4B-5875-4CE8-B8B1-DC0F19A71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3D22-6107-43D3-BD23-71504476AE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9933-CA1B-4E94-B85C-D05A1523B6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612D-1F79-4411-AF95-91A5909E74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AAB8-2B66-4B59-86CF-7A4193BD21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166F-61F8-40DE-9DE6-E56CDDE6CA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B1FF-5428-4E0D-9C4B-90DF1E89B3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46A2-E9BA-45AF-9F8D-95D08244F0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9C31-396B-4D8A-80B6-6E8B7B3E3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CF62-C935-4C9D-8F0E-81E4F78B73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C119-74E7-4B97-A3A2-E14D20784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BB66-A6A7-475A-B7F2-C9169E47B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7A86-C924-4BCC-B0EB-2511F350EB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9476-7EEB-49AF-AF74-5947E6151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1424-4B42-4719-8A9E-E3FD6D7C33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7563-8B89-4691-831F-B7A3714F9D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FABD-7F9C-49D3-83D6-26CC7FD34E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D983-23FF-4CB7-AB99-3479080EB2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0E8F-CFAA-4E3E-A550-799BFC1B7D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95400" y="2604960"/>
            <a:ext cx="89532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3313" descr=""/>
          <p:cNvPicPr/>
          <p:nvPr/>
        </p:nvPicPr>
        <p:blipFill>
          <a:blip r:embed="rId1"/>
          <a:stretch/>
        </p:blipFill>
        <p:spPr>
          <a:xfrm>
            <a:off x="619200" y="1112760"/>
            <a:ext cx="79056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8" name="图片 14337" descr=""/>
          <p:cNvPicPr/>
          <p:nvPr/>
        </p:nvPicPr>
        <p:blipFill>
          <a:blip r:embed="rId1"/>
          <a:stretch/>
        </p:blipFill>
        <p:spPr>
          <a:xfrm>
            <a:off x="1090440" y="2747880"/>
            <a:ext cx="6963120" cy="13622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3"/>
          <a:stretch/>
        </p:blipFill>
        <p:spPr>
          <a:xfrm>
            <a:off x="378000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4"/>
          <a:stretch/>
        </p:blipFill>
        <p:spPr>
          <a:xfrm>
            <a:off x="500364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5"/>
          <a:stretch/>
        </p:blipFill>
        <p:spPr>
          <a:xfrm>
            <a:off x="622764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6"/>
          <a:stretch/>
        </p:blipFill>
        <p:spPr>
          <a:xfrm>
            <a:off x="7308720" y="3645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6" name="图片 15361" descr=""/>
          <p:cNvPicPr/>
          <p:nvPr/>
        </p:nvPicPr>
        <p:blipFill>
          <a:blip r:embed="rId1"/>
          <a:stretch/>
        </p:blipFill>
        <p:spPr>
          <a:xfrm>
            <a:off x="1247760" y="1166760"/>
            <a:ext cx="6648480" cy="52866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2"/>
          <a:stretch/>
        </p:blipFill>
        <p:spPr>
          <a:xfrm>
            <a:off x="2050920" y="2075040"/>
            <a:ext cx="3961080" cy="3841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1908000" y="3068640"/>
            <a:ext cx="3961080" cy="3841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4"/>
          <a:stretch/>
        </p:blipFill>
        <p:spPr>
          <a:xfrm>
            <a:off x="1835280" y="4048200"/>
            <a:ext cx="3960720" cy="3841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5"/>
          <a:stretch/>
        </p:blipFill>
        <p:spPr>
          <a:xfrm>
            <a:off x="1979640" y="5027760"/>
            <a:ext cx="4392720" cy="3841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6"/>
          <a:stretch/>
        </p:blipFill>
        <p:spPr>
          <a:xfrm>
            <a:off x="1979640" y="6021360"/>
            <a:ext cx="4392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4" name="图片 16386" descr=""/>
          <p:cNvPicPr/>
          <p:nvPr/>
        </p:nvPicPr>
        <p:blipFill>
          <a:blip r:embed="rId1"/>
          <a:stretch/>
        </p:blipFill>
        <p:spPr>
          <a:xfrm>
            <a:off x="123840" y="1319040"/>
            <a:ext cx="889632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7" name="图片 17409" descr=""/>
          <p:cNvPicPr/>
          <p:nvPr/>
        </p:nvPicPr>
        <p:blipFill>
          <a:blip r:embed="rId1"/>
          <a:stretch/>
        </p:blipFill>
        <p:spPr>
          <a:xfrm>
            <a:off x="38160" y="2224080"/>
            <a:ext cx="9067680" cy="24098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3"/>
          <a:stretch/>
        </p:blipFill>
        <p:spPr>
          <a:xfrm>
            <a:off x="324000" y="27385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5"/>
          <a:stretch/>
        </p:blipFill>
        <p:spPr>
          <a:xfrm>
            <a:off x="32400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6"/>
          <a:stretch/>
        </p:blipFill>
        <p:spPr>
          <a:xfrm>
            <a:off x="324000" y="42354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22529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3362400" cy="5713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2531" descr=""/>
          <p:cNvPicPr/>
          <p:nvPr/>
        </p:nvPicPr>
        <p:blipFill>
          <a:blip r:embed="rId2"/>
          <a:stretch/>
        </p:blipFill>
        <p:spPr>
          <a:xfrm>
            <a:off x="109440" y="2075040"/>
            <a:ext cx="8925120" cy="3514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900000" y="26877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826920" y="39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826920" y="4508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900000" y="51577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5" descr=""/>
          <p:cNvPicPr/>
          <p:nvPr/>
        </p:nvPicPr>
        <p:blipFill>
          <a:blip r:embed="rId1"/>
          <a:stretch/>
        </p:blipFill>
        <p:spPr>
          <a:xfrm>
            <a:off x="163440" y="2565360"/>
            <a:ext cx="8585280" cy="26398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684360" y="3443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684360" y="39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684360" y="43797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669960" y="4869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1" name="组合 20485"/>
          <p:cNvGrpSpPr/>
          <p:nvPr/>
        </p:nvGrpSpPr>
        <p:grpSpPr>
          <a:xfrm>
            <a:off x="34920" y="1846440"/>
            <a:ext cx="9001080" cy="2950560"/>
            <a:chOff x="34920" y="1846440"/>
            <a:chExt cx="9001080" cy="2950560"/>
          </a:xfrm>
        </p:grpSpPr>
        <p:pic>
          <p:nvPicPr>
            <p:cNvPr id="1042" name="图片 20483" descr=""/>
            <p:cNvPicPr/>
            <p:nvPr/>
          </p:nvPicPr>
          <p:blipFill>
            <a:blip r:embed="rId1"/>
            <a:stretch/>
          </p:blipFill>
          <p:spPr>
            <a:xfrm>
              <a:off x="34920" y="1846440"/>
              <a:ext cx="873432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图片 20484" descr=""/>
            <p:cNvPicPr/>
            <p:nvPr/>
          </p:nvPicPr>
          <p:blipFill>
            <a:blip r:embed="rId2"/>
            <a:stretch/>
          </p:blipFill>
          <p:spPr>
            <a:xfrm>
              <a:off x="503280" y="3913200"/>
              <a:ext cx="8532720" cy="8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684360" y="2867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611280" y="34005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684360" y="39337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684360" y="4437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51" name="组合 8196"/>
          <p:cNvGrpSpPr/>
          <p:nvPr/>
        </p:nvGrpSpPr>
        <p:grpSpPr>
          <a:xfrm>
            <a:off x="812880" y="476280"/>
            <a:ext cx="7219800" cy="6353280"/>
            <a:chOff x="812880" y="476280"/>
            <a:chExt cx="7219800" cy="6353280"/>
          </a:xfrm>
        </p:grpSpPr>
        <p:pic>
          <p:nvPicPr>
            <p:cNvPr id="1052" name="图片 8193" descr=""/>
            <p:cNvPicPr/>
            <p:nvPr/>
          </p:nvPicPr>
          <p:blipFill>
            <a:blip r:embed="rId1"/>
            <a:stretch/>
          </p:blipFill>
          <p:spPr>
            <a:xfrm>
              <a:off x="812880" y="1068480"/>
              <a:ext cx="7219800" cy="56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图片 8194" descr=""/>
            <p:cNvPicPr/>
            <p:nvPr/>
          </p:nvPicPr>
          <p:blipFill>
            <a:blip r:embed="rId2"/>
            <a:stretch/>
          </p:blipFill>
          <p:spPr>
            <a:xfrm>
              <a:off x="3059280" y="476280"/>
              <a:ext cx="226692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1" descr=""/>
            <p:cNvPicPr/>
            <p:nvPr/>
          </p:nvPicPr>
          <p:blipFill>
            <a:blip r:embed="rId3"/>
            <a:stretch/>
          </p:blipFill>
          <p:spPr>
            <a:xfrm>
              <a:off x="2629080" y="1528920"/>
              <a:ext cx="3382920" cy="530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5" name="直接连接符 8197"/>
          <p:cNvSpPr/>
          <p:nvPr/>
        </p:nvSpPr>
        <p:spPr>
          <a:xfrm>
            <a:off x="2627280" y="1930320"/>
            <a:ext cx="3457440" cy="7779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直接连接符 8198"/>
          <p:cNvSpPr/>
          <p:nvPr/>
        </p:nvSpPr>
        <p:spPr>
          <a:xfrm flipV="1">
            <a:off x="2627280" y="1700280"/>
            <a:ext cx="345744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直接连接符 8199"/>
          <p:cNvSpPr/>
          <p:nvPr/>
        </p:nvSpPr>
        <p:spPr>
          <a:xfrm>
            <a:off x="2671920" y="4105440"/>
            <a:ext cx="3354120" cy="72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8200"/>
          <p:cNvSpPr/>
          <p:nvPr/>
        </p:nvSpPr>
        <p:spPr>
          <a:xfrm>
            <a:off x="2641680" y="5186520"/>
            <a:ext cx="3354480" cy="72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直接连接符 8201"/>
          <p:cNvSpPr/>
          <p:nvPr/>
        </p:nvSpPr>
        <p:spPr>
          <a:xfrm flipV="1">
            <a:off x="2685960" y="3860640"/>
            <a:ext cx="3340080" cy="2276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9219" descr=""/>
          <p:cNvPicPr/>
          <p:nvPr/>
        </p:nvPicPr>
        <p:blipFill>
          <a:blip r:embed="rId1"/>
          <a:stretch/>
        </p:blipFill>
        <p:spPr>
          <a:xfrm>
            <a:off x="33480" y="2033640"/>
            <a:ext cx="9077040" cy="27907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641520" y="2492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611280" y="29811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611280" y="3500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611280" y="4005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611280" y="4508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70" name="组合 10243"/>
          <p:cNvGrpSpPr/>
          <p:nvPr/>
        </p:nvGrpSpPr>
        <p:grpSpPr>
          <a:xfrm>
            <a:off x="34920" y="981000"/>
            <a:ext cx="8996400" cy="5300640"/>
            <a:chOff x="34920" y="981000"/>
            <a:chExt cx="8996400" cy="5300640"/>
          </a:xfrm>
        </p:grpSpPr>
        <p:pic>
          <p:nvPicPr>
            <p:cNvPr id="1071" name="图片 10241" descr=""/>
            <p:cNvPicPr/>
            <p:nvPr/>
          </p:nvPicPr>
          <p:blipFill>
            <a:blip r:embed="rId1"/>
            <a:stretch/>
          </p:blipFill>
          <p:spPr>
            <a:xfrm>
              <a:off x="34920" y="981000"/>
              <a:ext cx="8906040" cy="18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图片 10242" descr=""/>
            <p:cNvPicPr/>
            <p:nvPr/>
          </p:nvPicPr>
          <p:blipFill>
            <a:blip r:embed="rId2"/>
            <a:stretch/>
          </p:blipFill>
          <p:spPr>
            <a:xfrm>
              <a:off x="250920" y="3068640"/>
              <a:ext cx="8780400" cy="321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61128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5"/>
          <a:stretch/>
        </p:blipFill>
        <p:spPr>
          <a:xfrm>
            <a:off x="468360" y="3500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6"/>
          <a:stretch/>
        </p:blipFill>
        <p:spPr>
          <a:xfrm>
            <a:off x="468360" y="4437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7"/>
          <a:stretch/>
        </p:blipFill>
        <p:spPr>
          <a:xfrm>
            <a:off x="468360" y="544500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80" name="组合 12291"/>
          <p:cNvGrpSpPr/>
          <p:nvPr/>
        </p:nvGrpSpPr>
        <p:grpSpPr>
          <a:xfrm>
            <a:off x="179280" y="1628640"/>
            <a:ext cx="7947000" cy="4024080"/>
            <a:chOff x="179280" y="1628640"/>
            <a:chExt cx="7947000" cy="4024080"/>
          </a:xfrm>
        </p:grpSpPr>
        <p:pic>
          <p:nvPicPr>
            <p:cNvPr id="1081" name="图片 12289" descr=""/>
            <p:cNvPicPr/>
            <p:nvPr/>
          </p:nvPicPr>
          <p:blipFill>
            <a:blip r:embed="rId1"/>
            <a:stretch/>
          </p:blipFill>
          <p:spPr>
            <a:xfrm>
              <a:off x="179280" y="1628640"/>
              <a:ext cx="4648320" cy="38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图片 12290" descr=""/>
            <p:cNvPicPr/>
            <p:nvPr/>
          </p:nvPicPr>
          <p:blipFill>
            <a:blip r:embed="rId2"/>
            <a:stretch/>
          </p:blipFill>
          <p:spPr>
            <a:xfrm>
              <a:off x="6659640" y="2204640"/>
              <a:ext cx="1466640" cy="344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5"/>
          <a:stretch/>
        </p:blipFill>
        <p:spPr>
          <a:xfrm>
            <a:off x="755640" y="4653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88" name="组合 11267"/>
          <p:cNvGrpSpPr/>
          <p:nvPr/>
        </p:nvGrpSpPr>
        <p:grpSpPr>
          <a:xfrm>
            <a:off x="468360" y="2205000"/>
            <a:ext cx="7423200" cy="2376360"/>
            <a:chOff x="468360" y="2205000"/>
            <a:chExt cx="7423200" cy="2376360"/>
          </a:xfrm>
        </p:grpSpPr>
        <p:pic>
          <p:nvPicPr>
            <p:cNvPr id="1089" name="图片 11265" descr=""/>
            <p:cNvPicPr/>
            <p:nvPr/>
          </p:nvPicPr>
          <p:blipFill>
            <a:blip r:embed="rId1"/>
            <a:stretch/>
          </p:blipFill>
          <p:spPr>
            <a:xfrm>
              <a:off x="468360" y="2205000"/>
              <a:ext cx="514332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图片 11266" descr=""/>
            <p:cNvPicPr/>
            <p:nvPr/>
          </p:nvPicPr>
          <p:blipFill>
            <a:blip r:embed="rId2"/>
            <a:stretch/>
          </p:blipFill>
          <p:spPr>
            <a:xfrm>
              <a:off x="6443640" y="2276640"/>
              <a:ext cx="1447920" cy="230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1" name="Picture 1" descr=""/>
          <p:cNvPicPr/>
          <p:nvPr/>
        </p:nvPicPr>
        <p:blipFill>
          <a:blip r:embed="rId3"/>
          <a:stretch/>
        </p:blipFill>
        <p:spPr>
          <a:xfrm>
            <a:off x="727200" y="2205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50:21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